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B3D-4085-4A56-AB3A-D984BA3EC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845C-6C8A-4FC3-B4FB-1BD07990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AED-D8C6-4E2B-8F9A-0F541C65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FAB-4675-45CC-85B3-083C825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3F6-B2A7-44E3-A2D6-9C492318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AB5-7848-4D01-B8DE-30BBE8FD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8E8-6DDD-4EFF-86D6-2185C47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873-AC83-4A67-8DAC-4F5C2A53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310-BB53-4D6A-B2B0-8D9EB74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2C5-A4E3-4802-99F6-A92810F1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D80-75C5-4233-917F-5099B15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127-CCAA-4EB9-82D2-CDA2152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B26-8CD7-4AF6-93E7-E2F09F0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0F2-435E-48A0-A89B-FE4AA9B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FD7-525E-4EC9-81A5-FC2A370048E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apilla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in blood vesse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acemaker is another word for this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ino-atrial nod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arry blood away from the heart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rte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onnect veins to capillar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ven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llow oxygen to leave the bloo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apilla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lot to stop bleeding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latelet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bonds to oxygen so that it can be transported throughout the body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hemoglobi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an prevent almost every circulatory disea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ot smoking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l cancers including Leukemia can be treated with thi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hemotherap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ypertension can be treated with the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edication, eating healthy or exercise.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unc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Diseas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mergenc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even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uctur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an be caused by sitting or standing for too lo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eep Vein Thromb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62120" y="6094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the only one of the five that involves a system other than Circulato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Leuk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cancer of the bloo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Leuk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a clot in a blood vesse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romb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causes the arterial wall to thick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theroscler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ontain hemoglobi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9144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when the number of red blood cells and hemoglobin are 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when the pressure of blood flow increas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High Blood Pressure/ Hypertens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380880" y="152280"/>
            <a:ext cx="8305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en the heart looses function due to a blockage or spasm in an artery leading to the lack of oxygen and blood to the heart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heart attack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5800" y="8380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 part of the brain does not receive blood due to a blockage or rupture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trok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roke caused by a clot blocking a blood vessel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685800" y="21337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What is an Ischemic Stroke?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ed blood cel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roke caused by bleeding in the brain or a rupture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Hemorrhagic Strok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sc-shaped particles in the blood that aid clotting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latelet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37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bloo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irculatory system is made up of mostly thi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lood is 55% th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plasm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heart is made up of two of these and two of the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riums and ventric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Andy</cp:lastModifiedBy>
  <dcterms:modified xsi:type="dcterms:W3CDTF">2010-03-17T00:12:02Z</dcterms:modified>
  <cp:revision>30</cp:revision>
  <dc:subject/>
  <dc:title>No Slide Title</dc:title>
</cp:coreProperties>
</file>